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0B7-A9A6-4AA3-A9DA-4D69D074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F06-7C1A-44BD-8419-21270125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7A4-6AAF-4E32-875F-76863167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AF4-9A75-489E-96E8-054C4E24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ECE3-003B-434B-A3C5-62D2864D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77FB-2E10-4EEA-8FCD-96FD5B10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9798-DF2B-4ED2-8D16-E1A33143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4B75-FA5A-4DD5-AFCD-54BF9873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172C-38C9-498F-A5F3-C8329799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96F5-B6D3-4596-BF2E-38E4A0DF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5BB8-0855-43F0-80B9-AC8BECB0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653-DCDD-45FF-8AAD-1AD56EF3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5C1B-4DD2-4A87-9129-9FDE6EA6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3DE7-DDBF-4683-83AD-61E074C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D761-9CEF-4449-98CA-80315AB1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45E8-1D3E-4877-96BB-8A6432E0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5F59-7A6C-4D73-B199-FFE4691F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32F-BADB-4D02-B2BA-C0E74BF2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BC9-9F69-4A03-ACAF-7AF93C86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168-5669-4DFE-8E9F-1113893C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9B0-B558-4D02-A446-44D57EF4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18F-06AD-4FD0-8E1C-F146B6C5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98D-4A54-4D2A-BC92-DDC72A57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A1C-E92F-4916-A61A-2F268497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3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C943-C8E6-4846-BB90-CE115F9660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3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8672-A083-4C51-BE56-EDA8C37C01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ery comes to Americ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acob B. Pinkston, Claudia Lopez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first order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d September 22, 186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ared that all slaves be fr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id not fre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second ord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d January 1, 186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d 10 states that had to fre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Carolina, Tennessee, Virginia, Georgia, North Carolina, Mississippi, Kentucky, were all part of the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end of slavery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emancipation proclamation was passed most of the slaves were not freed immedi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eventually brought freedom to thousands of sla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September 22, 1862 slaves were fr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braham Lincoln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257440" y="182844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ident of the united s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against sla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d Emancipation Procla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735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Ulysses Grant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a general for the union (northern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ally won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25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orth vs. sout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- did not believe in sla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- believed in slaver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avery issues started the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464832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ivil wa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24080" y="3297240"/>
            <a:ext cx="35816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ave statistics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two million slaves were transported to America during the Atlantic slave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treated harshly and got severe beatings for almost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en did slavery star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ry started in 1619 when a Dutch ship arrived in Jamestown Virgi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ought tobacco and traded for twenty sl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1700’s blacks would be a major part of the work force on Sothern plantatio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avery in the south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e out of ten slaves went to the sou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20% of the population in the south was sl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s worked inside and outside doing various jo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aves worked on cotton, tobacco, rice and corn plant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aves jobs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rked from daylight to du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s worked every day and usually got off once a mon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middle passa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ddle passage refers to a passage of African people to America as part of the Atlantic slave tr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s where shipped to markets to be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markets they were sold to plantation ow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middle passag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fricans who where shipped to America were under harsh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tightly packed into s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them became seasick on the journey to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middle passag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de took weeks and sometimes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would die on the journey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chained ankle to ankle and wrist to w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slaves were sold they would then be branded by their ow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emancipation proclamation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mancipation proclamation consisted of two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was an order to fre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order named ten specific states in which it appl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48:24Z</dcterms:created>
  <dc:creator>teacher</dc:creator>
  <dc:description/>
  <dc:language>en-US</dc:language>
  <cp:lastModifiedBy>Jacob Blaine Pinkston</cp:lastModifiedBy>
  <dcterms:modified xsi:type="dcterms:W3CDTF">2010-01-14T00:54:13Z</dcterms:modified>
  <cp:revision>10</cp:revision>
  <dc:subject/>
  <dc:title>Slavery comes to america </dc:title>
</cp:coreProperties>
</file>